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3D48-BC6C-4718-8BF8-3F7BE24A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382-671F-4EDB-B810-9271E1FA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87C-B9E8-4B80-A33D-8353E3E3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847-6BFD-4AD4-A567-E5C89DC2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3135-ACE1-4DB1-AC73-51B19492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D49F-5EEA-41E8-B6E3-420DD2D9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EA47-6731-467D-8282-84EEE4D8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D50C-E03F-4909-8C0E-BE94CF14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127B-8694-4870-88C3-5094922F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AC92-07EA-493B-A66D-DBAB9BA2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FAB6-A940-4882-89D2-39844A56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C06C-26EF-43EE-84AC-6FFD0E61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31E7-FE0A-4918-8E3A-3164D62C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5598-76B5-484E-9032-83B3BFA9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3352-0DBB-4F84-BDC4-73676E1C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4069-9DB5-4A91-AF6F-38972D55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A819-97A8-41C3-862F-1E43766F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0C4EE-16D6-456C-87DE-87786C58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300DE-CB5F-4FF6-AC95-88ED0424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1A034-ED53-4CD6-B527-FC9B231B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4B905-4289-4752-AE3F-175DCFE9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A8C2F-0676-4C88-B345-EEDA5248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97A1-9CDF-4608-B43C-C4F2A670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04F40-D28B-460F-B975-BFDA7DA0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AE85C-0940-4C5A-B9B8-5E367A59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97F6E-536D-407F-9BB6-4E3F9817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E225B-9161-4D50-A602-A55318FD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0DC34-3711-4363-8CE3-EFB7D12E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D6270-D274-407B-8F80-50A2D21E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D316F-7858-4C92-A671-DEC0D1B0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489EB-A6F4-439D-9247-24FCBDAA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D823E-AF6B-4A3E-8284-8443DF1B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30C2F-9F21-4FC0-B9AB-A23797D5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546B-6B6A-42BF-9A65-AC175141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77192-2294-432D-B5D5-E376DEBD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A1A75-F159-48BC-94F2-22369857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9E9D7-DDA9-4951-BFFC-D6BFDCD8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D3EB0-A7E9-40EB-8F68-E3DEFA75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DA642-0E21-4F3F-9FDD-EC4A2F28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E4E6E-93B1-484B-85BA-72FCD2FF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BA013-C977-4BBA-9AF9-887496B6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01E8E-57EA-41CC-8EDA-7BFC7B1F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C8F2B-362E-4AFF-857C-C02EE4D4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6FF4C-50E1-459D-AB46-E8ABBDD7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278-EE02-4C12-8038-36A255F6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AE2D1-9FFE-4AC5-A2F7-DF229895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6F857-9921-40F0-98FD-BC400029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99299-1E6E-4907-A384-07C327D9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15E4B-3815-4BFD-8F2F-722429CA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15371-57D0-4A09-BD3E-E5E99798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1FF8D-7407-426E-9009-ED046A6B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A8F77-7E06-4BE9-8D96-90000B81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53F58-AAD1-4E7B-B6D1-A153009F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35F19-D5C0-4320-B1B1-D9CD446D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44439-C916-4C59-A98E-4ACC22B2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A8D9-BA3F-4FC9-8D91-3D23720F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1D4E4-938D-4E5B-9037-21E3530D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AC9-DDCE-4BB8-9BBB-CFB2FFA8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5F9-7F93-458A-A333-C3058F1B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9676-A050-43AE-8D90-D497D25E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E010-6F90-4B34-8BD1-DFA743ADAD9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6CDE-50DF-4895-A4F1-4102076ED9D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9915-16A2-4D16-A1E9-28586E4670A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BF02-3FA7-46CF-B61E-F7169EEDF91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081B-ABF5-4691-A4F6-60A8F618C76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onroe.lib.in.us/childrens/ddc000.html" TargetMode="External"/><Relationship Id="rId2" Type="http://schemas.openxmlformats.org/officeDocument/2006/relationships/hyperlink" Target="http://www.monroe.lib.in.us/childrens/ddc100.html" TargetMode="External"/><Relationship Id="rId3" Type="http://schemas.openxmlformats.org/officeDocument/2006/relationships/hyperlink" Target="http://www.monroe.lib.in.us/childrens/ddc200.html" TargetMode="External"/><Relationship Id="rId4" Type="http://schemas.openxmlformats.org/officeDocument/2006/relationships/hyperlink" Target="http://www.monroe.lib.in.us/childrens/ddc300.html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22160" y="368424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Use card catalogs and computer databases to locate sources for research topic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5.1a-Select the best source for a given purpos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5.1a 011.jpg"/>
          <p:cNvPicPr/>
          <p:nvPr/>
        </p:nvPicPr>
        <p:blipFill>
          <a:blip r:embed="rId1"/>
          <a:srcRect l="4277" t="14443" r="7934" b="25557"/>
          <a:stretch/>
        </p:blipFill>
        <p:spPr>
          <a:xfrm>
            <a:off x="1752480" y="457200"/>
            <a:ext cx="5334120" cy="60008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362320" y="2133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What is the topic of this paragraph?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2514600" y="25909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nne Sullivan; manual alphabet; Braill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" descr="5.1a 012.jpg"/>
          <p:cNvPicPr/>
          <p:nvPr/>
        </p:nvPicPr>
        <p:blipFill>
          <a:blip r:embed="rId1"/>
          <a:srcRect l="9763" t="12222" r="9763" b="76642"/>
          <a:stretch/>
        </p:blipFill>
        <p:spPr>
          <a:xfrm>
            <a:off x="1371600" y="304920"/>
            <a:ext cx="6629400" cy="15094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5.1a 012.jpg"/>
          <p:cNvPicPr/>
          <p:nvPr/>
        </p:nvPicPr>
        <p:blipFill>
          <a:blip r:embed="rId2"/>
          <a:srcRect l="9763" t="30787" r="9763" b="38889"/>
          <a:stretch/>
        </p:blipFill>
        <p:spPr>
          <a:xfrm>
            <a:off x="1066680" y="1981080"/>
            <a:ext cx="7248600" cy="44960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4"/>
          <p:cNvSpPr/>
          <p:nvPr/>
        </p:nvSpPr>
        <p:spPr>
          <a:xfrm>
            <a:off x="1752480" y="3657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reathing underwat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1828800" y="5486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reathing underwat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5.1a 013.jpg"/>
          <p:cNvPicPr/>
          <p:nvPr/>
        </p:nvPicPr>
        <p:blipFill>
          <a:blip r:embed="rId1"/>
          <a:srcRect l="7934" t="35588" r="9763" b="34421"/>
          <a:stretch/>
        </p:blipFill>
        <p:spPr>
          <a:xfrm>
            <a:off x="1143000" y="2500200"/>
            <a:ext cx="7010280" cy="4205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5.1a 013.jpg"/>
          <p:cNvPicPr/>
          <p:nvPr/>
        </p:nvPicPr>
        <p:blipFill>
          <a:blip r:embed="rId2"/>
          <a:srcRect l="7934" t="12222" r="9763" b="70889"/>
          <a:stretch/>
        </p:blipFill>
        <p:spPr>
          <a:xfrm>
            <a:off x="1295280" y="228600"/>
            <a:ext cx="6934320" cy="2343240"/>
          </a:xfrm>
          <a:prstGeom prst="rect">
            <a:avLst/>
          </a:prstGeom>
          <a:ln w="0">
            <a:noFill/>
          </a:ln>
        </p:spPr>
      </p:pic>
      <p:sp>
        <p:nvSpPr>
          <p:cNvPr id="262" name="TextBox 4"/>
          <p:cNvSpPr/>
          <p:nvPr/>
        </p:nvSpPr>
        <p:spPr>
          <a:xfrm>
            <a:off x="1905120" y="4114800"/>
            <a:ext cx="2286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Perpetua"/>
              </a:rPr>
              <a:t>what it feels like to be in space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1828800" y="5943600"/>
            <a:ext cx="2286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Perpetua"/>
              </a:rPr>
              <a:t>what it feels like to be in space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" descr="5.1a 014.jpg"/>
          <p:cNvPicPr/>
          <p:nvPr/>
        </p:nvPicPr>
        <p:blipFill>
          <a:blip r:embed="rId1"/>
          <a:srcRect l="7934" t="35174" r="9763" b="34241"/>
          <a:stretch/>
        </p:blipFill>
        <p:spPr>
          <a:xfrm>
            <a:off x="1143000" y="2666880"/>
            <a:ext cx="6477120" cy="39625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5.1a 014.jpg"/>
          <p:cNvPicPr/>
          <p:nvPr/>
        </p:nvPicPr>
        <p:blipFill>
          <a:blip r:embed="rId2"/>
          <a:srcRect l="7934" t="12255" r="9763" b="71774"/>
          <a:stretch/>
        </p:blipFill>
        <p:spPr>
          <a:xfrm>
            <a:off x="838080" y="304920"/>
            <a:ext cx="7391520" cy="23605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3"/>
          <p:cNvSpPr/>
          <p:nvPr/>
        </p:nvSpPr>
        <p:spPr>
          <a:xfrm>
            <a:off x="1905120" y="411480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The history of the Star-Spangled Banner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1828800" y="571500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The history of the Star-Spangled Banner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Content Placeholder 8" descr="card catalog card.tif"/>
          <p:cNvPicPr/>
          <p:nvPr/>
        </p:nvPicPr>
        <p:blipFill>
          <a:blip r:embed="rId1"/>
          <a:srcRect l="6452" t="27999" r="16324" b="38316"/>
          <a:stretch/>
        </p:blipFill>
        <p:spPr>
          <a:xfrm>
            <a:off x="228600" y="762120"/>
            <a:ext cx="8480520" cy="4800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609480" y="3885840"/>
            <a:ext cx="4114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This card is listed by author, Gary Paulsen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It could also be located by looking up the title, The Crossing, or the subject matter: emotional problems—young adult fiction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What other information is given on the card catalog?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What information does the computer catalog provide that the card catalog cannot?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96464"/>
                </a:solidFill>
                <a:latin typeface="Franklin Gothic Book"/>
              </a:rPr>
              <a:t>Card Catalog vs. Computer Catalog</a:t>
            </a:r>
            <a:endParaRPr b="0" lang="en-US" sz="35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5"/>
          <p:cNvSpPr/>
          <p:nvPr/>
        </p:nvSpPr>
        <p:spPr>
          <a:xfrm>
            <a:off x="1523880" y="1523880"/>
            <a:ext cx="5562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Title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history of radio/by Tom Harvey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Author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arvey, Tom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Call Number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J791.4 HARVE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Publisher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allas : Smith Publishing, Inc., c 1998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Description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352 p. : 24 cm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Notes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ncludes index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Summary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vides a history of radio from its invention to the present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Format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Juvenil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1371600" y="457920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6. Which two lines on the card catalog indicate that this book would be useful in researching Nathan Stubblefield?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uthor and Forma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Title and Summar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all Number and Not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ublisher and Descrip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685800" y="380880"/>
            <a:ext cx="739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erpetua"/>
              </a:rPr>
              <a:t>Nathan Stubblefield failed to file the proper paperwork to prove his inventions were really his own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erpetua"/>
              </a:rPr>
              <a:t>He died penniless and unknown in 1928. In 1930, the people of Murray, Kentucky, erected a monument to Nathan Stubblefield, with an inscription calling him “the inventor of radio.”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rd Catalo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144792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Every book still has a unique call number—a label made up of a series of numbers and/or letters.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Here we use FIC for fiction, Dewey decimal numbers for non-fiction, and B for Biographies.  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Once you know the call number of the item you need, just follow the signs to find that location in the library.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Picture 2" descr="C:\Documents and Settings\maxweel\Local Settings\Temporary Internet Files\Content.IE5\C5UFK5QN\MPj04395100000[1].jpg"/>
          <p:cNvPicPr/>
          <p:nvPr/>
        </p:nvPicPr>
        <p:blipFill>
          <a:blip r:embed="rId1"/>
          <a:stretch/>
        </p:blipFill>
        <p:spPr>
          <a:xfrm>
            <a:off x="4952880" y="3886200"/>
            <a:ext cx="37339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581040"/>
            <a:ext cx="8382240" cy="57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Dewey Decimal System-you may go to each section and look at the shelves for possible books that could be used as sources in research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336633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cc9900"/>
                </a:solidFill>
                <a:uFillTx/>
                <a:latin typeface="Verdana"/>
                <a:ea typeface="Times New Roman"/>
                <a:hlinkClick r:id="rId1"/>
              </a:rPr>
              <a:t>000 General Knowledg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Almanacs, Encyclopedias, Libraries, Museums, Newspapers, Journalism, Computers, News Media...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336633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cc9900"/>
                </a:solidFill>
                <a:uFillTx/>
                <a:latin typeface="Verdana"/>
                <a:ea typeface="Times New Roman"/>
                <a:hlinkClick r:id="rId2"/>
              </a:rPr>
              <a:t>100 Psychology and Philosophy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Death &amp; Dying, Ethics, Feelings, Logic, Making Friends, Optical Illusions, Superstitions ...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336633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cc9900"/>
                </a:solidFill>
                <a:uFillTx/>
                <a:latin typeface="Verdana"/>
                <a:ea typeface="Times New Roman"/>
                <a:hlinkClick r:id="rId3"/>
              </a:rPr>
              <a:t>200 Religions and Mythology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Amish, Bible Stories, Buddhism, Christianity, Judaism, Islam, Quakers, and other world religions; Greek, Roman and other myths...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336633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cc9900"/>
                </a:solidFill>
                <a:uFillTx/>
                <a:latin typeface="Verdana"/>
                <a:ea typeface="Times New Roman"/>
                <a:hlinkClick r:id="rId4"/>
              </a:rPr>
              <a:t>300 Social Sciences and Folklor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Careers, Customs, Environment, Families, Folktales, Ghost Stories, Government, Etiquette, Manners, Money, Recycling, Social Groups, Culture, Law, Civil &amp; Political Rights, Military, Criminology ...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336633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6633"/>
                </a:solidFill>
                <a:latin typeface="Verdana"/>
                <a:ea typeface="Times New Roman"/>
              </a:rPr>
              <a:t>400 Languages and Grammar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Chinese, English, French, German, Italian, Japanese, Sign Language, Spanish. Includes dictionaries....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336633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6633"/>
                </a:solidFill>
                <a:latin typeface="Verdana"/>
                <a:ea typeface="Times New Roman"/>
              </a:rPr>
              <a:t>500 Math and Scienc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Animals, Algebra, Biology, Chemistry, Dinosaurs, Fish, Geology, Insects, Physics, Planets, Plants, Fossils, Evolutions, Birds, Mammals ...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336633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6633"/>
                </a:solidFill>
                <a:latin typeface="Verdana"/>
                <a:ea typeface="Times New Roman"/>
              </a:rPr>
              <a:t>600 Medicine and Technology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uters, Cookbooks, Engineering, Farming, Health, Diseases, Medicine, Human Body, Inventions, House Keeping, Child Care, Manufacturing, Nutrition, Advertising, Accounting, Pets, Hunting &amp; Fishing, Cars ...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336633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6633"/>
                </a:solidFill>
                <a:latin typeface="Verdana"/>
                <a:ea typeface="Times New Roman"/>
              </a:rPr>
              <a:t>700 Arts &amp; Recreation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Architecture, Crafts, Drawing, Games, Landscape Design, Music, Puppets, Songbooks, Sculptures, Photography, Sports ...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336633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6633"/>
                </a:solidFill>
                <a:latin typeface="Verdana"/>
                <a:ea typeface="Times New Roman"/>
              </a:rPr>
              <a:t>800 Literatur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Children's Literature, Plays, Poetry, Shakespeare, Writing, Jokes, Speeches ...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336633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6633"/>
                </a:solidFill>
                <a:latin typeface="Verdana"/>
                <a:ea typeface="Times New Roman"/>
              </a:rPr>
              <a:t>900 Geography and History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Biographies, Countries, Native Americans, States, World History, Travel, Wars ...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atabas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erpetua"/>
              </a:rPr>
              <a:t>Organized collection of data—usually digital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erpetua"/>
              </a:rPr>
              <a:t>Can be magazine articles, journal articles, names, or any data set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erpetua"/>
              </a:rPr>
              <a:t>Sometime databases are based on subjects like History, Math, Science, or Geography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96464"/>
                </a:solidFill>
                <a:latin typeface="Franklin Gothic Book"/>
              </a:rPr>
              <a:t>How can a reader select the best source for information about a research topic?</a:t>
            </a:r>
            <a:endParaRPr b="0" lang="en-US" sz="2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352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ou need to know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topic being research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at additional information about the topic could be research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at sources are availabl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ther the information is likely to be in the sour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" descr="5.1a 010.jpg"/>
          <p:cNvPicPr/>
          <p:nvPr/>
        </p:nvPicPr>
        <p:blipFill>
          <a:blip r:embed="rId1"/>
          <a:srcRect l="8804" t="7778" r="10179" b="63872"/>
          <a:stretch/>
        </p:blipFill>
        <p:spPr>
          <a:xfrm>
            <a:off x="457200" y="609480"/>
            <a:ext cx="8201160" cy="4724640"/>
          </a:xfrm>
          <a:prstGeom prst="rect">
            <a:avLst/>
          </a:prstGeom>
          <a:ln w="0">
            <a:noFill/>
          </a:ln>
        </p:spPr>
      </p:pic>
      <p:sp>
        <p:nvSpPr>
          <p:cNvPr id="245" name="TextBox 2"/>
          <p:cNvSpPr/>
          <p:nvPr/>
        </p:nvSpPr>
        <p:spPr>
          <a:xfrm>
            <a:off x="838080" y="55627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topic of this passage?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" descr="5.1a 010.jpg"/>
          <p:cNvPicPr/>
          <p:nvPr/>
        </p:nvPicPr>
        <p:blipFill>
          <a:blip r:embed="rId1"/>
          <a:srcRect l="7934" t="36083" r="11591" b="25020"/>
          <a:stretch/>
        </p:blipFill>
        <p:spPr>
          <a:xfrm>
            <a:off x="1676520" y="533520"/>
            <a:ext cx="7086600" cy="56386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9"/>
          <p:cNvSpPr/>
          <p:nvPr/>
        </p:nvSpPr>
        <p:spPr>
          <a:xfrm>
            <a:off x="2590920" y="4876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irections on Pruning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2590920" y="3124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irections on Pruning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2209680" y="1447920"/>
            <a:ext cx="6324840" cy="1066680"/>
          </a:xfrm>
          <a:prstGeom prst="rect">
            <a:avLst/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2209680" y="2514600"/>
            <a:ext cx="6324840" cy="16002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2209680" y="4114800"/>
            <a:ext cx="6324840" cy="1523880"/>
          </a:xfrm>
          <a:prstGeom prst="rect">
            <a:avLst/>
          </a:prstGeom>
          <a:solidFill>
            <a:srgbClr val="9e3611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2438280" y="91440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irections on pruning; the difference between a hybrid and a floribunda;pH levels; alkaline; liquid vitamin B-1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8:09:40Z</dcterms:created>
  <dc:creator>maxweel</dc:creator>
  <dc:description/>
  <dc:language>en-US</dc:language>
  <cp:lastModifiedBy>maxweel</cp:lastModifiedBy>
  <dcterms:modified xsi:type="dcterms:W3CDTF">2011-03-21T16:29:53Z</dcterms:modified>
  <cp:revision>37</cp:revision>
  <dc:subject/>
  <dc:title>5.1a</dc:title>
</cp:coreProperties>
</file>